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10.png" ContentType="image/png"/>
  <Override PartName="/ppt/media/image23.png" ContentType="image/png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24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59F2-3F93-4282-A51A-E2DE90B5B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7C5A-6AF7-4F50-BF78-8D39B412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8C28-9D93-4161-B59F-FF5610656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D1A1-02BC-4D88-8BCC-A4B7B18A0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9D8A-EF98-436A-B6DB-8866C53D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5AA0-E61A-4C00-AD40-F20CBE6E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B1BE-5DD0-41F2-B872-D1863B97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EDD1-1DF9-415F-81DE-DBD5E0F4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2927-A9F9-41E1-9911-7247BE50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0554-7666-499F-B427-40F32712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66A4-AB56-42D6-A035-1362FA0A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1DC4-570C-42E1-97EE-9C373EB9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1526-D024-4B38-8169-94FCFB71A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2.wmf"/><Relationship Id="rId27" Type="http://schemas.openxmlformats.org/officeDocument/2006/relationships/image" Target="../media/image23.png"/><Relationship Id="rId2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560" y="117360"/>
            <a:ext cx="662724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APPLICATION – MANUAL SPEED CONTROL FOR DC MO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609480"/>
          <a:ext cx="6095880" cy="186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6095880" cy="18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" name=""/>
          <p:cNvGrpSpPr/>
          <p:nvPr/>
        </p:nvGrpSpPr>
        <p:grpSpPr>
          <a:xfrm>
            <a:off x="4743360" y="727200"/>
            <a:ext cx="4394880" cy="1593720"/>
            <a:chOff x="4743360" y="727200"/>
            <a:chExt cx="4394880" cy="1593720"/>
          </a:xfrm>
        </p:grpSpPr>
        <p:sp>
          <p:nvSpPr>
            <p:cNvPr id="45" name=""/>
            <p:cNvSpPr/>
            <p:nvPr/>
          </p:nvSpPr>
          <p:spPr>
            <a:xfrm>
              <a:off x="4743360" y="730080"/>
              <a:ext cx="1225800" cy="1590840"/>
            </a:xfrm>
            <a:custGeom>
              <a:avLst/>
              <a:gdLst/>
              <a:ahLst/>
              <a:rect l="l" t="t" r="r" b="b"/>
              <a:pathLst>
                <a:path w="774" h="1001">
                  <a:moveTo>
                    <a:pt x="724" y="576"/>
                  </a:moveTo>
                  <a:cubicBezTo>
                    <a:pt x="706" y="444"/>
                    <a:pt x="680" y="404"/>
                    <a:pt x="573" y="330"/>
                  </a:cubicBezTo>
                  <a:cubicBezTo>
                    <a:pt x="520" y="293"/>
                    <a:pt x="554" y="307"/>
                    <a:pt x="497" y="292"/>
                  </a:cubicBezTo>
                  <a:cubicBezTo>
                    <a:pt x="446" y="262"/>
                    <a:pt x="417" y="264"/>
                    <a:pt x="365" y="245"/>
                  </a:cubicBezTo>
                  <a:cubicBezTo>
                    <a:pt x="219" y="266"/>
                    <a:pt x="121" y="274"/>
                    <a:pt x="35" y="406"/>
                  </a:cubicBezTo>
                  <a:cubicBezTo>
                    <a:pt x="0" y="536"/>
                    <a:pt x="17" y="566"/>
                    <a:pt x="25" y="755"/>
                  </a:cubicBezTo>
                  <a:cubicBezTo>
                    <a:pt x="27" y="805"/>
                    <a:pt x="22" y="857"/>
                    <a:pt x="35" y="906"/>
                  </a:cubicBezTo>
                  <a:cubicBezTo>
                    <a:pt x="39" y="921"/>
                    <a:pt x="59" y="926"/>
                    <a:pt x="72" y="935"/>
                  </a:cubicBezTo>
                  <a:cubicBezTo>
                    <a:pt x="134" y="979"/>
                    <a:pt x="211" y="976"/>
                    <a:pt x="280" y="1001"/>
                  </a:cubicBezTo>
                  <a:cubicBezTo>
                    <a:pt x="319" y="998"/>
                    <a:pt x="450" y="992"/>
                    <a:pt x="507" y="982"/>
                  </a:cubicBezTo>
                  <a:cubicBezTo>
                    <a:pt x="539" y="976"/>
                    <a:pt x="592" y="935"/>
                    <a:pt x="592" y="935"/>
                  </a:cubicBezTo>
                  <a:cubicBezTo>
                    <a:pt x="656" y="837"/>
                    <a:pt x="559" y="981"/>
                    <a:pt x="639" y="878"/>
                  </a:cubicBezTo>
                  <a:cubicBezTo>
                    <a:pt x="653" y="860"/>
                    <a:pt x="677" y="821"/>
                    <a:pt x="677" y="821"/>
                  </a:cubicBezTo>
                  <a:cubicBezTo>
                    <a:pt x="699" y="753"/>
                    <a:pt x="667" y="837"/>
                    <a:pt x="715" y="765"/>
                  </a:cubicBezTo>
                  <a:cubicBezTo>
                    <a:pt x="721" y="757"/>
                    <a:pt x="720" y="745"/>
                    <a:pt x="724" y="736"/>
                  </a:cubicBezTo>
                  <a:cubicBezTo>
                    <a:pt x="729" y="726"/>
                    <a:pt x="737" y="717"/>
                    <a:pt x="743" y="708"/>
                  </a:cubicBezTo>
                  <a:cubicBezTo>
                    <a:pt x="774" y="615"/>
                    <a:pt x="760" y="671"/>
                    <a:pt x="771" y="538"/>
                  </a:cubicBezTo>
                  <a:cubicBezTo>
                    <a:pt x="756" y="361"/>
                    <a:pt x="733" y="178"/>
                    <a:pt x="733" y="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940000" y="727200"/>
              <a:ext cx="319824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Speed is proport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to applied voltage, V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2819520" y="784080"/>
            <a:ext cx="2011320" cy="1617840"/>
            <a:chOff x="2819520" y="784080"/>
            <a:chExt cx="2011320" cy="1617840"/>
          </a:xfrm>
        </p:grpSpPr>
        <p:sp>
          <p:nvSpPr>
            <p:cNvPr id="48" name=""/>
            <p:cNvSpPr/>
            <p:nvPr/>
          </p:nvSpPr>
          <p:spPr>
            <a:xfrm>
              <a:off x="2895480" y="1295280"/>
              <a:ext cx="45720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2819520" y="784080"/>
              <a:ext cx="2011320" cy="1617840"/>
              <a:chOff x="2819520" y="784080"/>
              <a:chExt cx="2011320" cy="1617840"/>
            </a:xfrm>
          </p:grpSpPr>
          <p:sp>
            <p:nvSpPr>
              <p:cNvPr id="50" name=""/>
              <p:cNvSpPr/>
              <p:nvPr/>
            </p:nvSpPr>
            <p:spPr>
              <a:xfrm>
                <a:off x="3178080" y="784080"/>
                <a:ext cx="1652760" cy="1617840"/>
              </a:xfrm>
              <a:custGeom>
                <a:avLst/>
                <a:gdLst/>
                <a:ahLst/>
                <a:rect l="l" t="t" r="r" b="b"/>
                <a:pathLst>
                  <a:path w="1041" h="1019">
                    <a:moveTo>
                      <a:pt x="444" y="63"/>
                    </a:moveTo>
                    <a:cubicBezTo>
                      <a:pt x="427" y="16"/>
                      <a:pt x="443" y="38"/>
                      <a:pt x="378" y="16"/>
                    </a:cubicBezTo>
                    <a:cubicBezTo>
                      <a:pt x="368" y="13"/>
                      <a:pt x="349" y="6"/>
                      <a:pt x="349" y="6"/>
                    </a:cubicBezTo>
                    <a:cubicBezTo>
                      <a:pt x="288" y="13"/>
                      <a:pt x="249" y="13"/>
                      <a:pt x="198" y="44"/>
                    </a:cubicBezTo>
                    <a:cubicBezTo>
                      <a:pt x="188" y="50"/>
                      <a:pt x="132" y="88"/>
                      <a:pt x="113" y="101"/>
                    </a:cubicBezTo>
                    <a:cubicBezTo>
                      <a:pt x="104" y="107"/>
                      <a:pt x="85" y="120"/>
                      <a:pt x="85" y="120"/>
                    </a:cubicBezTo>
                    <a:cubicBezTo>
                      <a:pt x="43" y="182"/>
                      <a:pt x="17" y="237"/>
                      <a:pt x="0" y="309"/>
                    </a:cubicBezTo>
                    <a:cubicBezTo>
                      <a:pt x="8" y="395"/>
                      <a:pt x="9" y="417"/>
                      <a:pt x="38" y="488"/>
                    </a:cubicBezTo>
                    <a:cubicBezTo>
                      <a:pt x="49" y="555"/>
                      <a:pt x="66" y="564"/>
                      <a:pt x="94" y="620"/>
                    </a:cubicBezTo>
                    <a:cubicBezTo>
                      <a:pt x="165" y="760"/>
                      <a:pt x="254" y="900"/>
                      <a:pt x="396" y="979"/>
                    </a:cubicBezTo>
                    <a:cubicBezTo>
                      <a:pt x="450" y="1009"/>
                      <a:pt x="526" y="1008"/>
                      <a:pt x="585" y="1017"/>
                    </a:cubicBezTo>
                    <a:cubicBezTo>
                      <a:pt x="645" y="1014"/>
                      <a:pt x="706" y="1019"/>
                      <a:pt x="765" y="1007"/>
                    </a:cubicBezTo>
                    <a:cubicBezTo>
                      <a:pt x="830" y="994"/>
                      <a:pt x="885" y="898"/>
                      <a:pt x="925" y="856"/>
                    </a:cubicBezTo>
                    <a:cubicBezTo>
                      <a:pt x="928" y="847"/>
                      <a:pt x="930" y="837"/>
                      <a:pt x="935" y="828"/>
                    </a:cubicBezTo>
                    <a:cubicBezTo>
                      <a:pt x="940" y="818"/>
                      <a:pt x="950" y="810"/>
                      <a:pt x="954" y="800"/>
                    </a:cubicBezTo>
                    <a:cubicBezTo>
                      <a:pt x="963" y="779"/>
                      <a:pt x="965" y="756"/>
                      <a:pt x="972" y="734"/>
                    </a:cubicBezTo>
                    <a:cubicBezTo>
                      <a:pt x="988" y="571"/>
                      <a:pt x="1041" y="367"/>
                      <a:pt x="944" y="224"/>
                    </a:cubicBezTo>
                    <a:cubicBezTo>
                      <a:pt x="913" y="93"/>
                      <a:pt x="834" y="70"/>
                      <a:pt x="736" y="6"/>
                    </a:cubicBezTo>
                    <a:cubicBezTo>
                      <a:pt x="672" y="10"/>
                      <a:pt x="507" y="0"/>
                      <a:pt x="444" y="63"/>
                    </a:cubicBezTo>
                    <a:close/>
                  </a:path>
                </a:pathLst>
              </a:custGeom>
              <a:noFill/>
              <a:ln w="316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51" name=""/>
              <p:cNvGraphicFramePr/>
              <p:nvPr/>
            </p:nvGraphicFramePr>
            <p:xfrm>
              <a:off x="2819520" y="974880"/>
              <a:ext cx="609480" cy="295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19520" y="974880"/>
                        <a:ext cx="609480" cy="29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53" name=""/>
          <p:cNvGrpSpPr/>
          <p:nvPr/>
        </p:nvGrpSpPr>
        <p:grpSpPr>
          <a:xfrm>
            <a:off x="922320" y="655560"/>
            <a:ext cx="1963800" cy="2089080"/>
            <a:chOff x="922320" y="655560"/>
            <a:chExt cx="1963800" cy="2089080"/>
          </a:xfrm>
        </p:grpSpPr>
        <p:sp>
          <p:nvSpPr>
            <p:cNvPr id="54" name=""/>
            <p:cNvSpPr/>
            <p:nvPr/>
          </p:nvSpPr>
          <p:spPr>
            <a:xfrm>
              <a:off x="995400" y="655560"/>
              <a:ext cx="1373040" cy="1817640"/>
            </a:xfrm>
            <a:custGeom>
              <a:avLst/>
              <a:gdLst/>
              <a:ahLst/>
              <a:rect l="l" t="t" r="r" b="b"/>
              <a:pathLst>
                <a:path w="865" h="1145">
                  <a:moveTo>
                    <a:pt x="393" y="12"/>
                  </a:moveTo>
                  <a:cubicBezTo>
                    <a:pt x="340" y="29"/>
                    <a:pt x="294" y="61"/>
                    <a:pt x="242" y="78"/>
                  </a:cubicBezTo>
                  <a:cubicBezTo>
                    <a:pt x="179" y="119"/>
                    <a:pt x="143" y="186"/>
                    <a:pt x="91" y="239"/>
                  </a:cubicBezTo>
                  <a:cubicBezTo>
                    <a:pt x="61" y="322"/>
                    <a:pt x="105" y="208"/>
                    <a:pt x="62" y="295"/>
                  </a:cubicBezTo>
                  <a:cubicBezTo>
                    <a:pt x="36" y="349"/>
                    <a:pt x="20" y="407"/>
                    <a:pt x="6" y="465"/>
                  </a:cubicBezTo>
                  <a:cubicBezTo>
                    <a:pt x="15" y="663"/>
                    <a:pt x="0" y="646"/>
                    <a:pt x="72" y="777"/>
                  </a:cubicBezTo>
                  <a:cubicBezTo>
                    <a:pt x="121" y="866"/>
                    <a:pt x="85" y="835"/>
                    <a:pt x="138" y="871"/>
                  </a:cubicBezTo>
                  <a:cubicBezTo>
                    <a:pt x="196" y="958"/>
                    <a:pt x="264" y="1023"/>
                    <a:pt x="336" y="1098"/>
                  </a:cubicBezTo>
                  <a:cubicBezTo>
                    <a:pt x="367" y="1130"/>
                    <a:pt x="457" y="1139"/>
                    <a:pt x="497" y="1145"/>
                  </a:cubicBezTo>
                  <a:cubicBezTo>
                    <a:pt x="509" y="1143"/>
                    <a:pt x="581" y="1136"/>
                    <a:pt x="601" y="1126"/>
                  </a:cubicBezTo>
                  <a:cubicBezTo>
                    <a:pt x="621" y="1116"/>
                    <a:pt x="657" y="1088"/>
                    <a:pt x="657" y="1088"/>
                  </a:cubicBezTo>
                  <a:cubicBezTo>
                    <a:pt x="687" y="1043"/>
                    <a:pt x="728" y="1009"/>
                    <a:pt x="761" y="966"/>
                  </a:cubicBezTo>
                  <a:cubicBezTo>
                    <a:pt x="777" y="918"/>
                    <a:pt x="795" y="869"/>
                    <a:pt x="818" y="824"/>
                  </a:cubicBezTo>
                  <a:cubicBezTo>
                    <a:pt x="829" y="779"/>
                    <a:pt x="844" y="737"/>
                    <a:pt x="855" y="692"/>
                  </a:cubicBezTo>
                  <a:cubicBezTo>
                    <a:pt x="858" y="660"/>
                    <a:pt x="865" y="629"/>
                    <a:pt x="865" y="597"/>
                  </a:cubicBezTo>
                  <a:cubicBezTo>
                    <a:pt x="865" y="462"/>
                    <a:pt x="852" y="349"/>
                    <a:pt x="799" y="229"/>
                  </a:cubicBezTo>
                  <a:cubicBezTo>
                    <a:pt x="779" y="183"/>
                    <a:pt x="777" y="155"/>
                    <a:pt x="733" y="125"/>
                  </a:cubicBezTo>
                  <a:cubicBezTo>
                    <a:pt x="708" y="54"/>
                    <a:pt x="598" y="54"/>
                    <a:pt x="534" y="40"/>
                  </a:cubicBezTo>
                  <a:cubicBezTo>
                    <a:pt x="529" y="39"/>
                    <a:pt x="482" y="23"/>
                    <a:pt x="478" y="21"/>
                  </a:cubicBezTo>
                  <a:cubicBezTo>
                    <a:pt x="468" y="16"/>
                    <a:pt x="460" y="3"/>
                    <a:pt x="449" y="2"/>
                  </a:cubicBezTo>
                  <a:cubicBezTo>
                    <a:pt x="430" y="0"/>
                    <a:pt x="412" y="9"/>
                    <a:pt x="393" y="12"/>
                  </a:cubicBezTo>
                  <a:close/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22320" y="2376360"/>
              <a:ext cx="196380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Potentiome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136440" y="1454040"/>
            <a:ext cx="4054680" cy="2355840"/>
            <a:chOff x="136440" y="1454040"/>
            <a:chExt cx="4054680" cy="2355840"/>
          </a:xfrm>
        </p:grpSpPr>
        <p:sp>
          <p:nvSpPr>
            <p:cNvPr id="57" name=""/>
            <p:cNvSpPr/>
            <p:nvPr/>
          </p:nvSpPr>
          <p:spPr>
            <a:xfrm>
              <a:off x="136440" y="2784600"/>
              <a:ext cx="4054680" cy="916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Arm is movable and allows to change R1 and R2 keeping their sum constant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58800" y="1454040"/>
              <a:ext cx="419400" cy="298440"/>
            </a:xfrm>
            <a:custGeom>
              <a:avLst/>
              <a:gdLst/>
              <a:ahLst/>
              <a:rect l="l" t="t" r="r" b="b"/>
              <a:pathLst>
                <a:path w="264" h="188">
                  <a:moveTo>
                    <a:pt x="264" y="85"/>
                  </a:moveTo>
                  <a:cubicBezTo>
                    <a:pt x="252" y="66"/>
                    <a:pt x="239" y="47"/>
                    <a:pt x="227" y="28"/>
                  </a:cubicBezTo>
                  <a:cubicBezTo>
                    <a:pt x="222" y="21"/>
                    <a:pt x="128" y="1"/>
                    <a:pt x="123" y="0"/>
                  </a:cubicBezTo>
                  <a:cubicBezTo>
                    <a:pt x="101" y="3"/>
                    <a:pt x="77" y="0"/>
                    <a:pt x="57" y="9"/>
                  </a:cubicBezTo>
                  <a:cubicBezTo>
                    <a:pt x="0" y="35"/>
                    <a:pt x="53" y="160"/>
                    <a:pt x="113" y="179"/>
                  </a:cubicBezTo>
                  <a:cubicBezTo>
                    <a:pt x="240" y="169"/>
                    <a:pt x="231" y="188"/>
                    <a:pt x="264" y="85"/>
                  </a:cubicBezTo>
                  <a:close/>
                </a:path>
              </a:pathLst>
            </a:custGeom>
            <a:noFill/>
            <a:ln w="316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9" name=""/>
            <p:cNvGraphicFramePr/>
            <p:nvPr/>
          </p:nvGraphicFramePr>
          <p:xfrm>
            <a:off x="2971800" y="3409920"/>
            <a:ext cx="1200240" cy="39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971800" y="3409920"/>
                      <a:ext cx="120024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1" name=""/>
          <p:cNvGrpSpPr/>
          <p:nvPr/>
        </p:nvGrpSpPr>
        <p:grpSpPr>
          <a:xfrm>
            <a:off x="-34920" y="614520"/>
            <a:ext cx="1241280" cy="1844640"/>
            <a:chOff x="-34920" y="614520"/>
            <a:chExt cx="1241280" cy="1844640"/>
          </a:xfrm>
        </p:grpSpPr>
        <p:sp>
          <p:nvSpPr>
            <p:cNvPr id="62" name=""/>
            <p:cNvSpPr/>
            <p:nvPr/>
          </p:nvSpPr>
          <p:spPr>
            <a:xfrm>
              <a:off x="-34920" y="614520"/>
              <a:ext cx="1063800" cy="1844640"/>
            </a:xfrm>
            <a:custGeom>
              <a:avLst/>
              <a:gdLst/>
              <a:ahLst/>
              <a:rect l="l" t="t" r="r" b="b"/>
              <a:pathLst>
                <a:path w="670" h="1162">
                  <a:moveTo>
                    <a:pt x="655" y="312"/>
                  </a:moveTo>
                  <a:cubicBezTo>
                    <a:pt x="670" y="236"/>
                    <a:pt x="670" y="160"/>
                    <a:pt x="626" y="95"/>
                  </a:cubicBezTo>
                  <a:cubicBezTo>
                    <a:pt x="609" y="40"/>
                    <a:pt x="631" y="89"/>
                    <a:pt x="589" y="47"/>
                  </a:cubicBezTo>
                  <a:cubicBezTo>
                    <a:pt x="581" y="39"/>
                    <a:pt x="579" y="26"/>
                    <a:pt x="570" y="19"/>
                  </a:cubicBezTo>
                  <a:cubicBezTo>
                    <a:pt x="554" y="7"/>
                    <a:pt x="532" y="7"/>
                    <a:pt x="513" y="0"/>
                  </a:cubicBezTo>
                  <a:cubicBezTo>
                    <a:pt x="450" y="3"/>
                    <a:pt x="387" y="2"/>
                    <a:pt x="324" y="10"/>
                  </a:cubicBezTo>
                  <a:cubicBezTo>
                    <a:pt x="315" y="11"/>
                    <a:pt x="255" y="42"/>
                    <a:pt x="239" y="47"/>
                  </a:cubicBezTo>
                  <a:cubicBezTo>
                    <a:pt x="105" y="149"/>
                    <a:pt x="44" y="367"/>
                    <a:pt x="13" y="529"/>
                  </a:cubicBezTo>
                  <a:cubicBezTo>
                    <a:pt x="16" y="617"/>
                    <a:pt x="0" y="710"/>
                    <a:pt x="31" y="793"/>
                  </a:cubicBezTo>
                  <a:cubicBezTo>
                    <a:pt x="89" y="949"/>
                    <a:pt x="177" y="1018"/>
                    <a:pt x="315" y="1105"/>
                  </a:cubicBezTo>
                  <a:cubicBezTo>
                    <a:pt x="334" y="1117"/>
                    <a:pt x="349" y="1139"/>
                    <a:pt x="371" y="1143"/>
                  </a:cubicBezTo>
                  <a:cubicBezTo>
                    <a:pt x="429" y="1154"/>
                    <a:pt x="404" y="1147"/>
                    <a:pt x="447" y="1162"/>
                  </a:cubicBezTo>
                  <a:cubicBezTo>
                    <a:pt x="465" y="1160"/>
                    <a:pt x="525" y="1156"/>
                    <a:pt x="551" y="1143"/>
                  </a:cubicBezTo>
                  <a:cubicBezTo>
                    <a:pt x="668" y="1086"/>
                    <a:pt x="645" y="946"/>
                    <a:pt x="645" y="841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20" y="650880"/>
              <a:ext cx="114084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Batte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645440" y="2403360"/>
            <a:ext cx="3472560" cy="368280"/>
            <a:chOff x="4645440" y="2403360"/>
            <a:chExt cx="3472560" cy="368280"/>
          </a:xfrm>
        </p:grpSpPr>
        <p:sp>
          <p:nvSpPr>
            <p:cNvPr id="65" name=""/>
            <p:cNvSpPr/>
            <p:nvPr/>
          </p:nvSpPr>
          <p:spPr>
            <a:xfrm>
              <a:off x="4645440" y="2403360"/>
              <a:ext cx="3472560" cy="368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Assumption     (no loa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6" name=""/>
            <p:cNvGraphicFramePr/>
            <p:nvPr/>
          </p:nvGraphicFramePr>
          <p:xfrm>
            <a:off x="6172200" y="2438280"/>
            <a:ext cx="609480" cy="295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72200" y="2438280"/>
                      <a:ext cx="609480" cy="29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8" name=""/>
          <p:cNvGrpSpPr/>
          <p:nvPr/>
        </p:nvGrpSpPr>
        <p:grpSpPr>
          <a:xfrm>
            <a:off x="4723920" y="2743200"/>
            <a:ext cx="4158360" cy="1141200"/>
            <a:chOff x="4723920" y="2743200"/>
            <a:chExt cx="4158360" cy="1141200"/>
          </a:xfrm>
        </p:grpSpPr>
        <p:graphicFrame>
          <p:nvGraphicFramePr>
            <p:cNvPr id="69" name=""/>
            <p:cNvGraphicFramePr/>
            <p:nvPr/>
          </p:nvGraphicFramePr>
          <p:xfrm>
            <a:off x="5257800" y="2743200"/>
            <a:ext cx="2438280" cy="555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257800" y="2743200"/>
                      <a:ext cx="2438280" cy="55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" name=""/>
            <p:cNvSpPr/>
            <p:nvPr/>
          </p:nvSpPr>
          <p:spPr>
            <a:xfrm>
              <a:off x="4723920" y="3241800"/>
              <a:ext cx="4158360" cy="6426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Potentiometer is not affec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by connection to amplif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0" y="3962520"/>
            <a:ext cx="6324480" cy="2425680"/>
            <a:chOff x="0" y="3962520"/>
            <a:chExt cx="6324480" cy="2425680"/>
          </a:xfrm>
        </p:grpSpPr>
        <p:graphicFrame>
          <p:nvGraphicFramePr>
            <p:cNvPr id="73" name=""/>
            <p:cNvGraphicFramePr/>
            <p:nvPr/>
          </p:nvGraphicFramePr>
          <p:xfrm>
            <a:off x="0" y="3962520"/>
            <a:ext cx="6324480" cy="2425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0" y="3962520"/>
                      <a:ext cx="6324480" cy="242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" name=""/>
            <p:cNvSpPr/>
            <p:nvPr/>
          </p:nvSpPr>
          <p:spPr>
            <a:xfrm>
              <a:off x="449640" y="4003920"/>
              <a:ext cx="2238120" cy="368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Circuit dia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5119560" y="523800"/>
            <a:ext cx="3948120" cy="5381640"/>
            <a:chOff x="5119560" y="523800"/>
            <a:chExt cx="3948120" cy="5381640"/>
          </a:xfrm>
        </p:grpSpPr>
        <p:grpSp>
          <p:nvGrpSpPr>
            <p:cNvPr id="77" name=""/>
            <p:cNvGrpSpPr/>
            <p:nvPr/>
          </p:nvGrpSpPr>
          <p:grpSpPr>
            <a:xfrm>
              <a:off x="5119560" y="523800"/>
              <a:ext cx="3919680" cy="5381640"/>
              <a:chOff x="5119560" y="523800"/>
              <a:chExt cx="3919680" cy="5381640"/>
            </a:xfrm>
          </p:grpSpPr>
          <p:sp>
            <p:nvSpPr>
              <p:cNvPr id="78" name=""/>
              <p:cNvSpPr/>
              <p:nvPr/>
            </p:nvSpPr>
            <p:spPr>
              <a:xfrm>
                <a:off x="5119560" y="4632480"/>
                <a:ext cx="1527480" cy="1272960"/>
              </a:xfrm>
              <a:custGeom>
                <a:avLst/>
                <a:gdLst/>
                <a:ahLst/>
                <a:rect l="l" t="t" r="r" b="b"/>
                <a:pathLst>
                  <a:path w="962" h="802">
                    <a:moveTo>
                      <a:pt x="845" y="226"/>
                    </a:moveTo>
                    <a:cubicBezTo>
                      <a:pt x="825" y="188"/>
                      <a:pt x="823" y="165"/>
                      <a:pt x="788" y="141"/>
                    </a:cubicBezTo>
                    <a:cubicBezTo>
                      <a:pt x="785" y="132"/>
                      <a:pt x="786" y="120"/>
                      <a:pt x="779" y="113"/>
                    </a:cubicBezTo>
                    <a:cubicBezTo>
                      <a:pt x="765" y="99"/>
                      <a:pt x="705" y="73"/>
                      <a:pt x="684" y="66"/>
                    </a:cubicBezTo>
                    <a:cubicBezTo>
                      <a:pt x="601" y="10"/>
                      <a:pt x="519" y="9"/>
                      <a:pt x="420" y="0"/>
                    </a:cubicBezTo>
                    <a:cubicBezTo>
                      <a:pt x="382" y="3"/>
                      <a:pt x="344" y="2"/>
                      <a:pt x="307" y="9"/>
                    </a:cubicBezTo>
                    <a:cubicBezTo>
                      <a:pt x="258" y="18"/>
                      <a:pt x="278" y="28"/>
                      <a:pt x="250" y="56"/>
                    </a:cubicBezTo>
                    <a:cubicBezTo>
                      <a:pt x="201" y="105"/>
                      <a:pt x="149" y="151"/>
                      <a:pt x="108" y="208"/>
                    </a:cubicBezTo>
                    <a:cubicBezTo>
                      <a:pt x="69" y="262"/>
                      <a:pt x="52" y="328"/>
                      <a:pt x="23" y="387"/>
                    </a:cubicBezTo>
                    <a:cubicBezTo>
                      <a:pt x="0" y="506"/>
                      <a:pt x="28" y="594"/>
                      <a:pt x="127" y="661"/>
                    </a:cubicBezTo>
                    <a:cubicBezTo>
                      <a:pt x="162" y="713"/>
                      <a:pt x="205" y="722"/>
                      <a:pt x="259" y="746"/>
                    </a:cubicBezTo>
                    <a:cubicBezTo>
                      <a:pt x="276" y="754"/>
                      <a:pt x="290" y="766"/>
                      <a:pt x="307" y="774"/>
                    </a:cubicBezTo>
                    <a:cubicBezTo>
                      <a:pt x="325" y="782"/>
                      <a:pt x="344" y="787"/>
                      <a:pt x="363" y="793"/>
                    </a:cubicBezTo>
                    <a:cubicBezTo>
                      <a:pt x="373" y="796"/>
                      <a:pt x="392" y="802"/>
                      <a:pt x="392" y="802"/>
                    </a:cubicBezTo>
                    <a:cubicBezTo>
                      <a:pt x="500" y="795"/>
                      <a:pt x="587" y="796"/>
                      <a:pt x="684" y="755"/>
                    </a:cubicBezTo>
                    <a:cubicBezTo>
                      <a:pt x="715" y="742"/>
                      <a:pt x="750" y="733"/>
                      <a:pt x="779" y="717"/>
                    </a:cubicBezTo>
                    <a:cubicBezTo>
                      <a:pt x="799" y="706"/>
                      <a:pt x="835" y="680"/>
                      <a:pt x="835" y="680"/>
                    </a:cubicBezTo>
                    <a:cubicBezTo>
                      <a:pt x="869" y="629"/>
                      <a:pt x="846" y="659"/>
                      <a:pt x="911" y="595"/>
                    </a:cubicBezTo>
                    <a:cubicBezTo>
                      <a:pt x="940" y="566"/>
                      <a:pt x="946" y="499"/>
                      <a:pt x="958" y="462"/>
                    </a:cubicBezTo>
                    <a:cubicBezTo>
                      <a:pt x="953" y="387"/>
                      <a:pt x="962" y="317"/>
                      <a:pt x="920" y="255"/>
                    </a:cubicBezTo>
                    <a:cubicBezTo>
                      <a:pt x="911" y="226"/>
                      <a:pt x="896" y="206"/>
                      <a:pt x="883" y="179"/>
                    </a:cubicBezTo>
                  </a:path>
                </a:pathLst>
              </a:custGeom>
              <a:noFill/>
              <a:ln w="316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070680" y="523800"/>
                <a:ext cx="2968560" cy="1139760"/>
              </a:xfrm>
              <a:custGeom>
                <a:avLst/>
                <a:gdLst/>
                <a:ahLst/>
                <a:rect l="l" t="t" r="r" b="b"/>
                <a:pathLst>
                  <a:path w="1870" h="718">
                    <a:moveTo>
                      <a:pt x="1870" y="76"/>
                    </a:moveTo>
                    <a:cubicBezTo>
                      <a:pt x="1695" y="18"/>
                      <a:pt x="1488" y="42"/>
                      <a:pt x="1313" y="38"/>
                    </a:cubicBezTo>
                    <a:cubicBezTo>
                      <a:pt x="1042" y="23"/>
                      <a:pt x="771" y="26"/>
                      <a:pt x="501" y="0"/>
                    </a:cubicBezTo>
                    <a:cubicBezTo>
                      <a:pt x="390" y="7"/>
                      <a:pt x="377" y="4"/>
                      <a:pt x="293" y="19"/>
                    </a:cubicBezTo>
                    <a:cubicBezTo>
                      <a:pt x="257" y="26"/>
                      <a:pt x="248" y="28"/>
                      <a:pt x="217" y="38"/>
                    </a:cubicBezTo>
                    <a:cubicBezTo>
                      <a:pt x="198" y="44"/>
                      <a:pt x="161" y="57"/>
                      <a:pt x="161" y="57"/>
                    </a:cubicBezTo>
                    <a:cubicBezTo>
                      <a:pt x="133" y="76"/>
                      <a:pt x="108" y="84"/>
                      <a:pt x="76" y="95"/>
                    </a:cubicBezTo>
                    <a:cubicBezTo>
                      <a:pt x="63" y="104"/>
                      <a:pt x="48" y="111"/>
                      <a:pt x="38" y="123"/>
                    </a:cubicBezTo>
                    <a:cubicBezTo>
                      <a:pt x="23" y="140"/>
                      <a:pt x="0" y="180"/>
                      <a:pt x="0" y="180"/>
                    </a:cubicBezTo>
                    <a:cubicBezTo>
                      <a:pt x="3" y="221"/>
                      <a:pt x="0" y="263"/>
                      <a:pt x="10" y="303"/>
                    </a:cubicBezTo>
                    <a:cubicBezTo>
                      <a:pt x="13" y="316"/>
                      <a:pt x="31" y="320"/>
                      <a:pt x="38" y="331"/>
                    </a:cubicBezTo>
                    <a:cubicBezTo>
                      <a:pt x="43" y="339"/>
                      <a:pt x="41" y="351"/>
                      <a:pt x="47" y="359"/>
                    </a:cubicBezTo>
                    <a:cubicBezTo>
                      <a:pt x="66" y="383"/>
                      <a:pt x="119" y="442"/>
                      <a:pt x="151" y="454"/>
                    </a:cubicBezTo>
                    <a:cubicBezTo>
                      <a:pt x="183" y="485"/>
                      <a:pt x="206" y="491"/>
                      <a:pt x="246" y="510"/>
                    </a:cubicBezTo>
                    <a:cubicBezTo>
                      <a:pt x="292" y="558"/>
                      <a:pt x="424" y="592"/>
                      <a:pt x="491" y="614"/>
                    </a:cubicBezTo>
                    <a:cubicBezTo>
                      <a:pt x="568" y="640"/>
                      <a:pt x="664" y="684"/>
                      <a:pt x="746" y="690"/>
                    </a:cubicBezTo>
                    <a:cubicBezTo>
                      <a:pt x="918" y="703"/>
                      <a:pt x="1093" y="709"/>
                      <a:pt x="1266" y="718"/>
                    </a:cubicBezTo>
                    <a:cubicBezTo>
                      <a:pt x="1282" y="717"/>
                      <a:pt x="1534" y="701"/>
                      <a:pt x="1549" y="699"/>
                    </a:cubicBezTo>
                    <a:cubicBezTo>
                      <a:pt x="1613" y="690"/>
                      <a:pt x="1656" y="655"/>
                      <a:pt x="1709" y="624"/>
                    </a:cubicBezTo>
                    <a:cubicBezTo>
                      <a:pt x="1755" y="598"/>
                      <a:pt x="1804" y="577"/>
                      <a:pt x="1842" y="539"/>
                    </a:cubicBezTo>
                  </a:path>
                </a:pathLst>
              </a:custGeom>
              <a:noFill/>
              <a:ln w="316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80" name=""/>
            <p:cNvGraphicFramePr/>
            <p:nvPr/>
          </p:nvGraphicFramePr>
          <p:xfrm>
            <a:off x="6019920" y="4038480"/>
            <a:ext cx="3047760" cy="3906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019920" y="4038480"/>
                      <a:ext cx="3047760" cy="39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2" name=""/>
          <p:cNvGrpSpPr/>
          <p:nvPr/>
        </p:nvGrpSpPr>
        <p:grpSpPr>
          <a:xfrm>
            <a:off x="4365720" y="1968480"/>
            <a:ext cx="4701960" cy="3108240"/>
            <a:chOff x="4365720" y="1968480"/>
            <a:chExt cx="4701960" cy="3108240"/>
          </a:xfrm>
        </p:grpSpPr>
        <p:sp>
          <p:nvSpPr>
            <p:cNvPr id="83" name=""/>
            <p:cNvSpPr/>
            <p:nvPr/>
          </p:nvSpPr>
          <p:spPr>
            <a:xfrm>
              <a:off x="4365720" y="1968480"/>
              <a:ext cx="4286160" cy="1478160"/>
            </a:xfrm>
            <a:custGeom>
              <a:avLst/>
              <a:gdLst/>
              <a:ahLst/>
              <a:rect l="l" t="t" r="r" b="b"/>
              <a:pathLst>
                <a:path w="2700" h="931">
                  <a:moveTo>
                    <a:pt x="2661" y="554"/>
                  </a:moveTo>
                  <a:cubicBezTo>
                    <a:pt x="2648" y="504"/>
                    <a:pt x="2644" y="447"/>
                    <a:pt x="2613" y="403"/>
                  </a:cubicBezTo>
                  <a:cubicBezTo>
                    <a:pt x="2593" y="374"/>
                    <a:pt x="2553" y="321"/>
                    <a:pt x="2528" y="299"/>
                  </a:cubicBezTo>
                  <a:cubicBezTo>
                    <a:pt x="2469" y="247"/>
                    <a:pt x="2380" y="220"/>
                    <a:pt x="2311" y="186"/>
                  </a:cubicBezTo>
                  <a:cubicBezTo>
                    <a:pt x="2248" y="154"/>
                    <a:pt x="2195" y="130"/>
                    <a:pt x="2122" y="120"/>
                  </a:cubicBezTo>
                  <a:cubicBezTo>
                    <a:pt x="2012" y="105"/>
                    <a:pt x="2055" y="113"/>
                    <a:pt x="1934" y="101"/>
                  </a:cubicBezTo>
                  <a:cubicBezTo>
                    <a:pt x="1877" y="95"/>
                    <a:pt x="1764" y="82"/>
                    <a:pt x="1764" y="82"/>
                  </a:cubicBezTo>
                  <a:cubicBezTo>
                    <a:pt x="1630" y="37"/>
                    <a:pt x="1462" y="45"/>
                    <a:pt x="1320" y="35"/>
                  </a:cubicBezTo>
                  <a:cubicBezTo>
                    <a:pt x="1222" y="28"/>
                    <a:pt x="1125" y="23"/>
                    <a:pt x="1027" y="16"/>
                  </a:cubicBezTo>
                  <a:cubicBezTo>
                    <a:pt x="980" y="13"/>
                    <a:pt x="885" y="6"/>
                    <a:pt x="885" y="6"/>
                  </a:cubicBezTo>
                  <a:cubicBezTo>
                    <a:pt x="750" y="11"/>
                    <a:pt x="579" y="0"/>
                    <a:pt x="442" y="44"/>
                  </a:cubicBezTo>
                  <a:cubicBezTo>
                    <a:pt x="403" y="69"/>
                    <a:pt x="364" y="80"/>
                    <a:pt x="319" y="91"/>
                  </a:cubicBezTo>
                  <a:cubicBezTo>
                    <a:pt x="285" y="108"/>
                    <a:pt x="248" y="119"/>
                    <a:pt x="215" y="139"/>
                  </a:cubicBezTo>
                  <a:cubicBezTo>
                    <a:pt x="114" y="201"/>
                    <a:pt x="185" y="175"/>
                    <a:pt x="121" y="195"/>
                  </a:cubicBezTo>
                  <a:cubicBezTo>
                    <a:pt x="111" y="208"/>
                    <a:pt x="103" y="222"/>
                    <a:pt x="92" y="233"/>
                  </a:cubicBezTo>
                  <a:cubicBezTo>
                    <a:pt x="84" y="241"/>
                    <a:pt x="71" y="243"/>
                    <a:pt x="64" y="252"/>
                  </a:cubicBezTo>
                  <a:cubicBezTo>
                    <a:pt x="12" y="317"/>
                    <a:pt x="106" y="245"/>
                    <a:pt x="26" y="299"/>
                  </a:cubicBezTo>
                  <a:cubicBezTo>
                    <a:pt x="17" y="359"/>
                    <a:pt x="0" y="467"/>
                    <a:pt x="36" y="516"/>
                  </a:cubicBezTo>
                  <a:cubicBezTo>
                    <a:pt x="82" y="578"/>
                    <a:pt x="150" y="621"/>
                    <a:pt x="224" y="639"/>
                  </a:cubicBezTo>
                  <a:cubicBezTo>
                    <a:pt x="352" y="702"/>
                    <a:pt x="489" y="731"/>
                    <a:pt x="621" y="781"/>
                  </a:cubicBezTo>
                  <a:cubicBezTo>
                    <a:pt x="729" y="822"/>
                    <a:pt x="852" y="882"/>
                    <a:pt x="970" y="885"/>
                  </a:cubicBezTo>
                  <a:cubicBezTo>
                    <a:pt x="1222" y="891"/>
                    <a:pt x="1474" y="891"/>
                    <a:pt x="1726" y="894"/>
                  </a:cubicBezTo>
                  <a:cubicBezTo>
                    <a:pt x="1969" y="931"/>
                    <a:pt x="2221" y="886"/>
                    <a:pt x="2462" y="847"/>
                  </a:cubicBezTo>
                  <a:cubicBezTo>
                    <a:pt x="2519" y="827"/>
                    <a:pt x="2577" y="791"/>
                    <a:pt x="2623" y="752"/>
                  </a:cubicBezTo>
                  <a:cubicBezTo>
                    <a:pt x="2633" y="743"/>
                    <a:pt x="2643" y="734"/>
                    <a:pt x="2651" y="724"/>
                  </a:cubicBezTo>
                  <a:cubicBezTo>
                    <a:pt x="2665" y="706"/>
                    <a:pt x="2689" y="667"/>
                    <a:pt x="2689" y="667"/>
                  </a:cubicBezTo>
                  <a:cubicBezTo>
                    <a:pt x="2700" y="633"/>
                    <a:pt x="2698" y="649"/>
                    <a:pt x="2698" y="62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4" name=""/>
            <p:cNvGraphicFramePr/>
            <p:nvPr/>
          </p:nvGraphicFramePr>
          <p:xfrm>
            <a:off x="6172200" y="4572000"/>
            <a:ext cx="2895480" cy="504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172200" y="4572000"/>
                      <a:ext cx="2895480" cy="5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6" name="" descr=""/>
          <p:cNvPicPr/>
          <p:nvPr/>
        </p:nvPicPr>
        <p:blipFill>
          <a:blip r:embed="rId1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0" y="38160"/>
          <a:ext cx="7238880" cy="11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160"/>
                    <a:ext cx="723888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0" y="1295280"/>
          <a:ext cx="2438280" cy="231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295280"/>
                    <a:ext cx="243828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131200" y="1641600"/>
            <a:ext cx="360972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Model using node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133720" y="2057400"/>
          <a:ext cx="2438280" cy="76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2057400"/>
                    <a:ext cx="243828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4648320" y="1998720"/>
          <a:ext cx="3581280" cy="820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1998720"/>
                    <a:ext cx="358128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7" name=""/>
          <p:cNvGrpSpPr/>
          <p:nvPr/>
        </p:nvGrpSpPr>
        <p:grpSpPr>
          <a:xfrm>
            <a:off x="4191120" y="304920"/>
            <a:ext cx="4952880" cy="763560"/>
            <a:chOff x="4191120" y="304920"/>
            <a:chExt cx="4952880" cy="763560"/>
          </a:xfrm>
        </p:grpSpPr>
        <p:sp>
          <p:nvSpPr>
            <p:cNvPr id="98" name=""/>
            <p:cNvSpPr/>
            <p:nvPr/>
          </p:nvSpPr>
          <p:spPr>
            <a:xfrm flipV="1">
              <a:off x="4191120" y="838080"/>
              <a:ext cx="3047760" cy="763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9" name=""/>
            <p:cNvGraphicFramePr/>
            <p:nvPr/>
          </p:nvGraphicFramePr>
          <p:xfrm>
            <a:off x="7086600" y="304920"/>
            <a:ext cx="2057400" cy="763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086600" y="304920"/>
                      <a:ext cx="2057400" cy="76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1" name=""/>
          <p:cNvSpPr/>
          <p:nvPr/>
        </p:nvSpPr>
        <p:spPr>
          <a:xfrm>
            <a:off x="4740840" y="2936880"/>
            <a:ext cx="4432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Resistors values should be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53640" y="2936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2760" y="3317760"/>
            <a:ext cx="429552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Why not use very large valu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33520" y="1143000"/>
            <a:ext cx="1358640" cy="1193760"/>
            <a:chOff x="533520" y="1143000"/>
            <a:chExt cx="1358640" cy="1193760"/>
          </a:xfrm>
        </p:grpSpPr>
        <p:graphicFrame>
          <p:nvGraphicFramePr>
            <p:cNvPr id="105" name=""/>
            <p:cNvGraphicFramePr/>
            <p:nvPr/>
          </p:nvGraphicFramePr>
          <p:xfrm>
            <a:off x="1219320" y="1600200"/>
            <a:ext cx="672840" cy="7365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219320" y="1600200"/>
                      <a:ext cx="67284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7" name=""/>
            <p:cNvSpPr/>
            <p:nvPr/>
          </p:nvSpPr>
          <p:spPr>
            <a:xfrm>
              <a:off x="990720" y="1600200"/>
              <a:ext cx="0" cy="6858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8" name=""/>
            <p:cNvGraphicFramePr/>
            <p:nvPr/>
          </p:nvGraphicFramePr>
          <p:xfrm>
            <a:off x="533520" y="1143000"/>
            <a:ext cx="990360" cy="2793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33520" y="1143000"/>
                      <a:ext cx="99036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10" name=""/>
          <p:cNvGraphicFramePr/>
          <p:nvPr/>
        </p:nvGraphicFramePr>
        <p:xfrm>
          <a:off x="304920" y="3581280"/>
          <a:ext cx="1904760" cy="598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04920" y="3581280"/>
                    <a:ext cx="190476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2" name=""/>
          <p:cNvGrpSpPr/>
          <p:nvPr/>
        </p:nvGrpSpPr>
        <p:grpSpPr>
          <a:xfrm>
            <a:off x="2286000" y="2819520"/>
            <a:ext cx="2514600" cy="2577960"/>
            <a:chOff x="2286000" y="2819520"/>
            <a:chExt cx="2514600" cy="2577960"/>
          </a:xfrm>
        </p:grpSpPr>
        <p:graphicFrame>
          <p:nvGraphicFramePr>
            <p:cNvPr id="113" name=""/>
            <p:cNvGraphicFramePr/>
            <p:nvPr/>
          </p:nvGraphicFramePr>
          <p:xfrm>
            <a:off x="2286000" y="2819520"/>
            <a:ext cx="2514600" cy="21985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286000" y="2819520"/>
                      <a:ext cx="2514600" cy="219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5" name=""/>
            <p:cNvSpPr/>
            <p:nvPr/>
          </p:nvSpPr>
          <p:spPr>
            <a:xfrm>
              <a:off x="2339640" y="5029200"/>
              <a:ext cx="2375280" cy="368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Design equ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588920" y="3851280"/>
            <a:ext cx="456984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Use trial and error. P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Highest possible R1, deter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R2 and analyze resulting cir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724280" y="4724280"/>
          <a:ext cx="2971800" cy="6066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724280" y="4724280"/>
                    <a:ext cx="29718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7238880" y="5153040"/>
          <a:ext cx="1905120" cy="307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238880" y="5153040"/>
                    <a:ext cx="1905120" cy="3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" name=""/>
          <p:cNvGrpSpPr/>
          <p:nvPr/>
        </p:nvGrpSpPr>
        <p:grpSpPr>
          <a:xfrm>
            <a:off x="108000" y="1994040"/>
            <a:ext cx="4541760" cy="4581360"/>
            <a:chOff x="108000" y="1994040"/>
            <a:chExt cx="4541760" cy="4581360"/>
          </a:xfrm>
        </p:grpSpPr>
        <p:sp>
          <p:nvSpPr>
            <p:cNvPr id="122" name=""/>
            <p:cNvSpPr/>
            <p:nvPr/>
          </p:nvSpPr>
          <p:spPr>
            <a:xfrm>
              <a:off x="300240" y="5375160"/>
              <a:ext cx="2923920" cy="368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Analysis of solu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8000" y="1994040"/>
              <a:ext cx="4541760" cy="3971880"/>
            </a:xfrm>
            <a:custGeom>
              <a:avLst/>
              <a:gdLst/>
              <a:ahLst/>
              <a:rect l="l" t="t" r="r" b="b"/>
              <a:pathLst>
                <a:path w="2861" h="2502">
                  <a:moveTo>
                    <a:pt x="2784" y="396"/>
                  </a:moveTo>
                  <a:cubicBezTo>
                    <a:pt x="2795" y="352"/>
                    <a:pt x="2812" y="330"/>
                    <a:pt x="2840" y="293"/>
                  </a:cubicBezTo>
                  <a:cubicBezTo>
                    <a:pt x="2846" y="274"/>
                    <a:pt x="2861" y="256"/>
                    <a:pt x="2859" y="236"/>
                  </a:cubicBezTo>
                  <a:cubicBezTo>
                    <a:pt x="2856" y="211"/>
                    <a:pt x="2856" y="185"/>
                    <a:pt x="2850" y="160"/>
                  </a:cubicBezTo>
                  <a:cubicBezTo>
                    <a:pt x="2826" y="64"/>
                    <a:pt x="2696" y="74"/>
                    <a:pt x="2623" y="66"/>
                  </a:cubicBezTo>
                  <a:cubicBezTo>
                    <a:pt x="2505" y="53"/>
                    <a:pt x="2450" y="52"/>
                    <a:pt x="2312" y="47"/>
                  </a:cubicBezTo>
                  <a:cubicBezTo>
                    <a:pt x="2224" y="44"/>
                    <a:pt x="2135" y="41"/>
                    <a:pt x="2047" y="38"/>
                  </a:cubicBezTo>
                  <a:cubicBezTo>
                    <a:pt x="1955" y="24"/>
                    <a:pt x="1866" y="9"/>
                    <a:pt x="1773" y="0"/>
                  </a:cubicBezTo>
                  <a:cubicBezTo>
                    <a:pt x="1676" y="3"/>
                    <a:pt x="1578" y="1"/>
                    <a:pt x="1481" y="9"/>
                  </a:cubicBezTo>
                  <a:cubicBezTo>
                    <a:pt x="1461" y="11"/>
                    <a:pt x="1424" y="28"/>
                    <a:pt x="1424" y="28"/>
                  </a:cubicBezTo>
                  <a:cubicBezTo>
                    <a:pt x="1389" y="52"/>
                    <a:pt x="1330" y="113"/>
                    <a:pt x="1330" y="113"/>
                  </a:cubicBezTo>
                  <a:cubicBezTo>
                    <a:pt x="1323" y="133"/>
                    <a:pt x="1303" y="149"/>
                    <a:pt x="1301" y="170"/>
                  </a:cubicBezTo>
                  <a:cubicBezTo>
                    <a:pt x="1298" y="194"/>
                    <a:pt x="1313" y="230"/>
                    <a:pt x="1320" y="255"/>
                  </a:cubicBezTo>
                  <a:cubicBezTo>
                    <a:pt x="1352" y="368"/>
                    <a:pt x="1438" y="417"/>
                    <a:pt x="1547" y="444"/>
                  </a:cubicBezTo>
                  <a:cubicBezTo>
                    <a:pt x="1627" y="464"/>
                    <a:pt x="1645" y="480"/>
                    <a:pt x="1736" y="491"/>
                  </a:cubicBezTo>
                  <a:cubicBezTo>
                    <a:pt x="1821" y="518"/>
                    <a:pt x="1912" y="524"/>
                    <a:pt x="2000" y="538"/>
                  </a:cubicBezTo>
                  <a:cubicBezTo>
                    <a:pt x="2022" y="535"/>
                    <a:pt x="2088" y="529"/>
                    <a:pt x="2066" y="529"/>
                  </a:cubicBezTo>
                  <a:cubicBezTo>
                    <a:pt x="1892" y="529"/>
                    <a:pt x="1735" y="572"/>
                    <a:pt x="1566" y="595"/>
                  </a:cubicBezTo>
                  <a:cubicBezTo>
                    <a:pt x="1555" y="596"/>
                    <a:pt x="1482" y="611"/>
                    <a:pt x="1471" y="614"/>
                  </a:cubicBezTo>
                  <a:cubicBezTo>
                    <a:pt x="1452" y="619"/>
                    <a:pt x="1414" y="633"/>
                    <a:pt x="1414" y="633"/>
                  </a:cubicBezTo>
                  <a:cubicBezTo>
                    <a:pt x="1397" y="650"/>
                    <a:pt x="1374" y="662"/>
                    <a:pt x="1358" y="680"/>
                  </a:cubicBezTo>
                  <a:cubicBezTo>
                    <a:pt x="1343" y="697"/>
                    <a:pt x="1320" y="736"/>
                    <a:pt x="1320" y="736"/>
                  </a:cubicBezTo>
                  <a:cubicBezTo>
                    <a:pt x="1301" y="799"/>
                    <a:pt x="1289" y="862"/>
                    <a:pt x="1273" y="925"/>
                  </a:cubicBezTo>
                  <a:cubicBezTo>
                    <a:pt x="1268" y="944"/>
                    <a:pt x="1254" y="982"/>
                    <a:pt x="1254" y="982"/>
                  </a:cubicBezTo>
                  <a:cubicBezTo>
                    <a:pt x="1241" y="1091"/>
                    <a:pt x="1204" y="1196"/>
                    <a:pt x="1178" y="1303"/>
                  </a:cubicBezTo>
                  <a:cubicBezTo>
                    <a:pt x="1172" y="1328"/>
                    <a:pt x="1170" y="1354"/>
                    <a:pt x="1160" y="1378"/>
                  </a:cubicBezTo>
                  <a:cubicBezTo>
                    <a:pt x="1147" y="1410"/>
                    <a:pt x="1122" y="1473"/>
                    <a:pt x="1122" y="1473"/>
                  </a:cubicBezTo>
                  <a:cubicBezTo>
                    <a:pt x="1111" y="1546"/>
                    <a:pt x="1084" y="1621"/>
                    <a:pt x="1056" y="1690"/>
                  </a:cubicBezTo>
                  <a:cubicBezTo>
                    <a:pt x="1037" y="1796"/>
                    <a:pt x="974" y="2000"/>
                    <a:pt x="886" y="2068"/>
                  </a:cubicBezTo>
                  <a:cubicBezTo>
                    <a:pt x="826" y="2115"/>
                    <a:pt x="758" y="2129"/>
                    <a:pt x="687" y="2153"/>
                  </a:cubicBezTo>
                  <a:cubicBezTo>
                    <a:pt x="553" y="2198"/>
                    <a:pt x="404" y="2159"/>
                    <a:pt x="262" y="2162"/>
                  </a:cubicBezTo>
                  <a:cubicBezTo>
                    <a:pt x="214" y="2172"/>
                    <a:pt x="218" y="2167"/>
                    <a:pt x="178" y="2191"/>
                  </a:cubicBezTo>
                  <a:cubicBezTo>
                    <a:pt x="159" y="2203"/>
                    <a:pt x="121" y="2228"/>
                    <a:pt x="121" y="2228"/>
                  </a:cubicBezTo>
                  <a:cubicBezTo>
                    <a:pt x="106" y="2270"/>
                    <a:pt x="72" y="2296"/>
                    <a:pt x="45" y="2332"/>
                  </a:cubicBezTo>
                  <a:cubicBezTo>
                    <a:pt x="33" y="2372"/>
                    <a:pt x="0" y="2448"/>
                    <a:pt x="64" y="2464"/>
                  </a:cubicBezTo>
                  <a:cubicBezTo>
                    <a:pt x="92" y="2471"/>
                    <a:pt x="121" y="2471"/>
                    <a:pt x="149" y="2474"/>
                  </a:cubicBezTo>
                  <a:cubicBezTo>
                    <a:pt x="197" y="2485"/>
                    <a:pt x="241" y="2502"/>
                    <a:pt x="291" y="2502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4" name=""/>
            <p:cNvGraphicFramePr/>
            <p:nvPr/>
          </p:nvGraphicFramePr>
          <p:xfrm>
            <a:off x="533520" y="5815080"/>
            <a:ext cx="2209680" cy="76032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533520" y="5815080"/>
                      <a:ext cx="2209680" cy="76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6" name=""/>
          <p:cNvGraphicFramePr/>
          <p:nvPr/>
        </p:nvGraphicFramePr>
        <p:xfrm>
          <a:off x="2819520" y="5942160"/>
          <a:ext cx="1218960" cy="3571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819520" y="5942160"/>
                    <a:ext cx="12189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4496400" y="5527800"/>
            <a:ext cx="4432680" cy="916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Are there other factors that 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hould consider; e.g., is 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really constant?, toleranc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>
            <a:hlinkClick r:id="" action="ppaction://hlinkshowjump?jump=endshow"/>
          </p:cNvPr>
          <p:cNvPicPr/>
          <p:nvPr/>
        </p:nvPicPr>
        <p:blipFill>
          <a:blip r:embed="rId27"/>
          <a:stretch/>
        </p:blipFill>
        <p:spPr>
          <a:xfrm>
            <a:off x="8610480" y="6324480"/>
            <a:ext cx="514440" cy="51444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2158920" y="609480"/>
            <a:ext cx="6908760" cy="1600200"/>
            <a:chOff x="2158920" y="609480"/>
            <a:chExt cx="6908760" cy="1600200"/>
          </a:xfrm>
        </p:grpSpPr>
        <p:grpSp>
          <p:nvGrpSpPr>
            <p:cNvPr id="132" name=""/>
            <p:cNvGrpSpPr/>
            <p:nvPr/>
          </p:nvGrpSpPr>
          <p:grpSpPr>
            <a:xfrm>
              <a:off x="2158920" y="609480"/>
              <a:ext cx="6610320" cy="978120"/>
              <a:chOff x="2158920" y="609480"/>
              <a:chExt cx="6610320" cy="978120"/>
            </a:xfrm>
          </p:grpSpPr>
          <p:sp>
            <p:nvSpPr>
              <p:cNvPr id="133" name=""/>
              <p:cNvSpPr/>
              <p:nvPr/>
            </p:nvSpPr>
            <p:spPr>
              <a:xfrm>
                <a:off x="4038480" y="609480"/>
                <a:ext cx="533520" cy="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158920" y="1219320"/>
                <a:ext cx="6610320" cy="36828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Standard= Off-the-self – available only in certain values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>
              <a:hlinkClick r:id="" action="ppaction://hlinkshowjump?jump=nextslide"/>
            </p:cNvPr>
            <p:cNvSpPr/>
            <p:nvPr/>
          </p:nvSpPr>
          <p:spPr>
            <a:xfrm>
              <a:off x="8305920" y="1600200"/>
              <a:ext cx="761760" cy="609480"/>
            </a:xfrm>
            <a:custGeom>
              <a:avLst/>
              <a:gdLst>
                <a:gd name="textAreaLeft" fmla="*/ 39240 w 761760"/>
                <a:gd name="textAreaRight" fmla="*/ 722520 w 761760"/>
                <a:gd name="textAreaTop" fmla="*/ 39240 h 609480"/>
                <a:gd name="textAreaBottom" fmla="*/ 570240 h 609480"/>
              </a:gdLst>
              <a:ahLst/>
              <a:rect l="textAreaLeft" t="textAreaTop" r="textAreaRight" b="textAreaBottom"/>
              <a:pathLst>
                <a:path w="26994" h="21600">
                  <a:moveTo>
                    <a:pt x="0" y="0"/>
                  </a:moveTo>
                  <a:lnTo>
                    <a:pt x="26994" y="0"/>
                  </a:lnTo>
                  <a:lnTo>
                    <a:pt x="26994" y="21600"/>
                  </a:lnTo>
                  <a:lnTo>
                    <a:pt x="0" y="21600"/>
                  </a:lnTo>
                  <a:close/>
                </a:path>
                <a:path fill="lightenLess" w="26994" h="21600">
                  <a:moveTo>
                    <a:pt x="0" y="0"/>
                  </a:moveTo>
                  <a:lnTo>
                    <a:pt x="26994" y="0"/>
                  </a:lnTo>
                  <a:lnTo>
                    <a:pt x="25594" y="1400"/>
                  </a:lnTo>
                  <a:lnTo>
                    <a:pt x="1400" y="1400"/>
                  </a:lnTo>
                  <a:close/>
                </a:path>
                <a:path fill="darken" w="26994" h="21600">
                  <a:moveTo>
                    <a:pt x="26994" y="0"/>
                  </a:moveTo>
                  <a:lnTo>
                    <a:pt x="26994" y="21600"/>
                  </a:lnTo>
                  <a:lnTo>
                    <a:pt x="25594" y="20200"/>
                  </a:lnTo>
                  <a:lnTo>
                    <a:pt x="25594" y="1400"/>
                  </a:lnTo>
                  <a:close/>
                </a:path>
                <a:path fill="darkenLess" w="26994" h="21600">
                  <a:moveTo>
                    <a:pt x="269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594" y="20200"/>
                  </a:lnTo>
                  <a:close/>
                </a:path>
                <a:path fill="lighten" w="269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994" h="21600">
                  <a:moveTo>
                    <a:pt x="13497" y="3794"/>
                  </a:moveTo>
                  <a:arcTo wR="7006" hR="7006" stAng="16200000" swAng="-5400000"/>
                  <a:arcTo wR="7006" hR="7006" stAng="10800000" swAng="-5400000"/>
                  <a:arcTo wR="7006" hR="7006" stAng="5400000" swAng="-5400000"/>
                  <a:arcTo wR="7006" hR="7006" stAng="0" swAng="-5400000"/>
                  <a:close/>
                </a:path>
                <a:path fill="lighten" w="26994" h="21600">
                  <a:moveTo>
                    <a:pt x="13497" y="4168"/>
                  </a:moveTo>
                  <a:arcTo wR="1793" hR="1793" stAng="16200000" swAng="-5400000"/>
                  <a:arcTo wR="1793" hR="1793" stAng="10800000" swAng="-5400000"/>
                  <a:arcTo wR="1793" hR="1793" stAng="5400000" swAng="-5400000"/>
                  <a:arcTo wR="1793" hR="1793" stAng="0" swAng="-5400000"/>
                  <a:close/>
                </a:path>
                <a:path fill="lighten" w="26994" h="21600">
                  <a:moveTo>
                    <a:pt x="10921" y="8224"/>
                  </a:moveTo>
                  <a:lnTo>
                    <a:pt x="14785" y="8224"/>
                  </a:lnTo>
                  <a:lnTo>
                    <a:pt x="14785" y="15221"/>
                  </a:lnTo>
                  <a:lnTo>
                    <a:pt x="16073" y="15221"/>
                  </a:lnTo>
                  <a:lnTo>
                    <a:pt x="16073" y="16144"/>
                  </a:lnTo>
                  <a:lnTo>
                    <a:pt x="10921" y="16144"/>
                  </a:lnTo>
                  <a:lnTo>
                    <a:pt x="10921" y="15221"/>
                  </a:lnTo>
                  <a:lnTo>
                    <a:pt x="12209" y="15221"/>
                  </a:lnTo>
                  <a:lnTo>
                    <a:pt x="12209" y="9129"/>
                  </a:lnTo>
                  <a:lnTo>
                    <a:pt x="10921" y="9129"/>
                  </a:lnTo>
                  <a:close/>
                </a:path>
              </a:pathLst>
            </a:custGeom>
            <a:solidFill>
              <a:srgbClr val="ccccff"/>
            </a:solidFill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838080" y="351000"/>
          <a:ext cx="7315200" cy="62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>
                    <a:hlinkClick r:id="" action="ppaction://hlinkshowjump?jump=previousslide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51000"/>
                    <a:ext cx="7315200" cy="62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7696080" y="3733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7467480" y="3271680"/>
            <a:ext cx="762120" cy="614520"/>
          </a:xfrm>
          <a:custGeom>
            <a:avLst/>
            <a:gdLst>
              <a:gd name="textAreaLeft" fmla="*/ 39600 w 762120"/>
              <a:gd name="textAreaRight" fmla="*/ 722520 w 762120"/>
              <a:gd name="textAreaTop" fmla="*/ 39600 h 614520"/>
              <a:gd name="textAreaBottom" fmla="*/ 574920 h 614520"/>
            </a:gdLst>
            <a:ahLst/>
            <a:rect l="textAreaLeft" t="textAreaTop" r="textAreaRight" b="textAreaBottom"/>
            <a:pathLst>
              <a:path w="26785" h="21600">
                <a:moveTo>
                  <a:pt x="0" y="0"/>
                </a:moveTo>
                <a:lnTo>
                  <a:pt x="26785" y="0"/>
                </a:lnTo>
                <a:lnTo>
                  <a:pt x="26785" y="21600"/>
                </a:lnTo>
                <a:lnTo>
                  <a:pt x="0" y="21600"/>
                </a:lnTo>
                <a:close/>
              </a:path>
              <a:path fill="lightenLess" w="26785" h="21600">
                <a:moveTo>
                  <a:pt x="0" y="0"/>
                </a:moveTo>
                <a:lnTo>
                  <a:pt x="26785" y="0"/>
                </a:lnTo>
                <a:lnTo>
                  <a:pt x="25385" y="1400"/>
                </a:lnTo>
                <a:lnTo>
                  <a:pt x="1400" y="1400"/>
                </a:lnTo>
                <a:close/>
              </a:path>
              <a:path fill="darken" w="26785" h="21600">
                <a:moveTo>
                  <a:pt x="26785" y="0"/>
                </a:moveTo>
                <a:lnTo>
                  <a:pt x="26785" y="21600"/>
                </a:lnTo>
                <a:lnTo>
                  <a:pt x="25385" y="20200"/>
                </a:lnTo>
                <a:lnTo>
                  <a:pt x="25385" y="1400"/>
                </a:lnTo>
                <a:close/>
              </a:path>
              <a:path fill="darkenLess" w="26785" h="21600">
                <a:moveTo>
                  <a:pt x="267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85" y="20200"/>
                </a:lnTo>
                <a:close/>
              </a:path>
              <a:path fill="lighten" w="267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785" h="21600">
                <a:moveTo>
                  <a:pt x="6386" y="7493"/>
                </a:moveTo>
                <a:lnTo>
                  <a:pt x="9894" y="7493"/>
                </a:lnTo>
                <a:lnTo>
                  <a:pt x="9894" y="12828"/>
                </a:lnTo>
                <a:cubicBezTo>
                  <a:pt x="9894" y="13751"/>
                  <a:pt x="10694" y="14482"/>
                  <a:pt x="11730" y="14482"/>
                </a:cubicBezTo>
                <a:lnTo>
                  <a:pt x="13393" y="14482"/>
                </a:lnTo>
                <a:cubicBezTo>
                  <a:pt x="14428" y="14482"/>
                  <a:pt x="15229" y="13751"/>
                  <a:pt x="15229" y="12828"/>
                </a:cubicBezTo>
                <a:lnTo>
                  <a:pt x="15229" y="7493"/>
                </a:lnTo>
                <a:lnTo>
                  <a:pt x="13393" y="7493"/>
                </a:lnTo>
                <a:lnTo>
                  <a:pt x="16900" y="3985"/>
                </a:lnTo>
                <a:lnTo>
                  <a:pt x="20573" y="7493"/>
                </a:lnTo>
                <a:lnTo>
                  <a:pt x="18737" y="7493"/>
                </a:lnTo>
                <a:lnTo>
                  <a:pt x="18737" y="12828"/>
                </a:lnTo>
                <a:cubicBezTo>
                  <a:pt x="18737" y="15596"/>
                  <a:pt x="16160" y="18155"/>
                  <a:pt x="13393" y="18155"/>
                </a:cubicBezTo>
                <a:lnTo>
                  <a:pt x="11730" y="18155"/>
                </a:lnTo>
                <a:cubicBezTo>
                  <a:pt x="8962" y="18155"/>
                  <a:pt x="6386" y="15596"/>
                  <a:pt x="6386" y="12828"/>
                </a:cubicBezTo>
                <a:close/>
              </a:path>
            </a:pathLst>
          </a:custGeom>
          <a:solidFill>
            <a:srgbClr val="ccccff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1T11:42:19Z</dcterms:created>
  <dc:creator>Jorge Aravena</dc:creator>
  <dc:description/>
  <dc:language>en-US</dc:language>
  <cp:lastModifiedBy>Jorge Aravena</cp:lastModifiedBy>
  <dcterms:modified xsi:type="dcterms:W3CDTF">2004-07-31T13:42:59Z</dcterms:modified>
  <cp:revision>2</cp:revision>
  <dc:subject/>
  <dc:title>Slide 1</dc:title>
</cp:coreProperties>
</file>